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FB8E-7445-4730-9D7F-D2085130E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D773-2924-4540-9A9E-3AA4062E9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A052-B2DB-441B-80D1-57578ED5B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BE5C-A3B9-43EE-8805-E09BEB67A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F600-CF00-4259-85F3-2094B8022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B085-B40D-4EF9-BDDE-D9EAD0C0D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69B4-5472-4E0C-8330-CD9A2FCF4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BBF7-CF45-45E6-AC53-EB9DE8251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6EA3-87F4-44DD-9D20-85F9875A0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FBFE-EEE7-44A5-8DD0-AF18D38A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C576-64CE-4E1E-BCB4-A822310E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AB2D-47C8-459A-A696-EB59159F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3A5B5-1879-4A4C-B438-0BBFC1DEA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DOMANDE di CHI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omanda N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00000" y="1773360"/>
            <a:ext cx="712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ono organuli cellular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mitocondri e lisoso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B) citoplasma e la membrana plasmati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C) cromosomi ed il D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D) </a:t>
            </a: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i cloroplasti ed i vacu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E) </a:t>
            </a: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i ribosomi ed il citoschele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omanda N.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00000" y="1989000"/>
            <a:ext cx="74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16000" y="1773360"/>
            <a:ext cx="5184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I DNA è formato 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due filamenti polinucleotidici avvolti ad e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da basi azotate, acido fosforico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       </a:t>
            </a: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desossiribos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C) due filamenti di amminoacidi avvolti ad e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D) </a:t>
            </a: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una sequenza di nucleoti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E) quesito senza soluzione univoca o corret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omanda N.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55640" y="2133720"/>
            <a:ext cx="77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00000" y="2060640"/>
            <a:ext cx="698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 mitocondri sono: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A) organuli in cui si compie la digestione cellul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organuli della grandezza di un baterio con una dopp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      </a:t>
            </a: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membr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organuli delle cellule eucariotiche in cui si compie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      </a:t>
            </a: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respirazione cellul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D) organuli in cui si compie la respirazione cellulare delle cell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ocarioti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E) organili dei batte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omanda N.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1773360"/>
            <a:ext cx="705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42920" y="1916280"/>
            <a:ext cx="66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n quali delle seguenti cellule è assente il nucleo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cellule procari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Cellule batteri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Eritrociti um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D) cellule nerv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E) cellule del midollo oss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omanda N.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42920" y="1773360"/>
            <a:ext cx="655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 mammiferi il numero dei cromosom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è caratteristico per ogni spe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è uguale in tutte le cell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) è una caratteristica del se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) varia da individuo ad individ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) </a:t>
            </a: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nella specie umana è pari a 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omanda N.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71640" y="1773360"/>
            <a:ext cx="5761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e cellule aploidi specializzate per la riproduzione sessuale sono det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) game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B) zigo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contengono un numero di cromosomi ridot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D) </a:t>
            </a: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ovociti e spermatoz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E) </a:t>
            </a: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sono prodotte dalle gona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omanda N.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403280" y="1844640"/>
            <a:ext cx="489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'informazione genetica è localizzat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nei  geni dei cromoso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B) nel citoplas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nel genoti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D) nei riboso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E) </a:t>
            </a: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nel nucleo delle cellule eucari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DOMANDE di BIOCHI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Domanda N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55640" y="1844640"/>
            <a:ext cx="6264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Gli aminoacidi usati per formare tutte le prote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sistenti son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 molecole organi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circa in numero di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tutti diversi tra di l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D) fortemente idrofob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E) contenuti nel nucleo delle cellule eucari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Domanda N.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42920" y="1989000"/>
            <a:ext cx="640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Gli acidi grassi sono formati d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A) lunghe catene di aminoaci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catene idrocarburi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C) esosi e pento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D) </a:t>
            </a: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gruppo acido ed una coda  alifa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E) prote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Domanda N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1700280"/>
            <a:ext cx="7561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Un legame che si instaura tra due molecole di acqua, con una debole forza, viene dett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A) legame io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B) legame idrofob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legame a idro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D) ponte di Varo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E) </a:t>
            </a: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legame a ponte di idro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Domanda N.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16000" y="1844640"/>
            <a:ext cx="727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 cos'è una vitamina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 una sostanza sintetizzata dall'organ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una sostanza fondamentale introdotta dall'este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) un antibio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) </a:t>
            </a: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una sostanza che  fa parte  delle reazioni metaboli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) una sostanza di riser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Domanda N.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76360" y="2205000"/>
            <a:ext cx="66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i enzimi son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catalizzatori biolog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 catalizzatori inorga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) catalizzatori industri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) </a:t>
            </a: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composti prote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) degradabili dal cal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Domanda N.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332000" y="1916280"/>
            <a:ext cx="619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carboidrati son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composti organici formati da monosaccari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composti organici formati da zuccheri sempl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) una classe di orm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) particolari vitam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) sono idrocarb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Domanda N.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87280" y="1700280"/>
            <a:ext cx="5905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l è la funzione primaria dei carboidrati neg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seri viventi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fornire ener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 formare prote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) accumularsi nel tessuto adipo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) </a:t>
            </a: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essere accumulati nel fegato dei mammife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) </a:t>
            </a: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essere ossidati nella cellula dall’ossi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atmosfe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Domanda N.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19280" y="1773360"/>
            <a:ext cx="597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'emoglobi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 non è una prote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è una protei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è ricca di fer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) ricca di cal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) </a:t>
            </a: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è contenuta negli eritroci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Domanda N.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00000" y="1844640"/>
            <a:ext cx="684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Una molecola si dice idrofoba se ess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A) è solubile in acq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B) è pol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è insolubile in acq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D) possiede atomi di az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E) </a:t>
            </a: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È un composto apol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Domanda N.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03280" y="1557360"/>
            <a:ext cx="66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un legame covalente si h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la sovrapposizione di orbitali atom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la compartecipazione di una coppia di elettr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) la perdita di elettr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) attrazione tra uno ione positivo ed uno neg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) l’acquisto di elettr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Domanda N.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58920" y="1844640"/>
            <a:ext cx="5545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li sono le unità più piccole che compongono le sostanze chimich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ato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 ossigeno e carbon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) batte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) 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) </a:t>
            </a: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molec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Domanda N.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76360" y="2060640"/>
            <a:ext cx="5832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composti organici sono quelli ch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 contengono zircon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contengono carbon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) non contengono assolutamente carbon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) le molecole contenute nelle cell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) </a:t>
            </a: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che contengono legami covalenti tra atomi 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carbon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Domanda N.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76360" y="1773360"/>
            <a:ext cx="590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 grassi e gli oli son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A) carboidr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B) zucche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contengono carbonio ed idro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D) vitam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E) </a:t>
            </a: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composti idrofob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Domanda N.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76360" y="2060640"/>
            <a:ext cx="62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I pH esprim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la concentrazione di ioni H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B) la concentrazione di ioni OH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il grado di acidità di una solu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D) </a:t>
            </a: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la concentrazione di prot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E) quesito senza soluzione univoca o corret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OMANDE di BIOLOG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5T11:51:06Z</dcterms:created>
  <dc:creator>Riccardo</dc:creator>
  <dc:description/>
  <dc:language>en-US</dc:language>
  <cp:lastModifiedBy>eugenio giachetti</cp:lastModifiedBy>
  <dcterms:modified xsi:type="dcterms:W3CDTF">2007-10-16T09:43:01Z</dcterms:modified>
  <cp:revision>7</cp:revision>
  <dc:subject/>
  <dc:title>DOMANDE di CHIMICA</dc:title>
</cp:coreProperties>
</file>