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C74-B1E6-4155-90DC-F283B6D2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893-B418-4B28-9FE2-0051022F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127-D7D2-46EB-88C8-1066DC5D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414-10AA-4194-9E9B-E6ED6195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C97-2B39-4621-9E8F-DD5A04D8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D88-CCBA-4851-9B5A-50008376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499-3F61-41A5-BBFD-4C2A7397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B96-9053-4A4E-9E4F-C90D0E53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180-4EA3-4B26-BE8A-DB81489C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603-64A5-4427-9868-59F38AAC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988-DA66-427D-98FA-0C55BC1C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D50-BD42-416B-B50E-F0BF63F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5983-F763-4700-96E7-934EA6B95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E di CHI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77336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no organuli cellul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mitocondri e lisos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citoplasma e la membrana plasma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cromosomi ed il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i cloroplasti ed i vac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i ribosomi ed il citoschel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989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773360"/>
            <a:ext cx="51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I DNA è forma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due filamenti polinucleotidici avvolti ad e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da basi azotate, acido fosforic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desossiribo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due filamenti di amminoacidi avvolti ad e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una sequenza di nucleot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quesito senza soluzione univoca o cor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13372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206064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mitocondri sono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organuli in cui si compie la digestione cell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organuli della grandezza di un baterio con una dop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organuli delle cellule eucariotiche in cui si compi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respirazione cell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organuli in cui si compie la respirazione cellulare delle cel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cario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organili dei ba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191628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quali delle seguenti cellule è assente il nucle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ellule procari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ellule batte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Eritrociti u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cellule nerv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cellule del midollo oss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77336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 mammiferi il numero dei cromosom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caratteristico per ogni spe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uguale in tutte le cel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è una caratteristica del s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varia da individuo ad 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lla specie umana è pari a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177336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cellule aploidi specializzate per la riproduzione sessuale sono det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) gam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zigo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ontengono un numero di cromosomi rid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ovociti e spermatoz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sono prodotte dalle gon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184464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'informazione genetica è localizz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nei  geni dei cromos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nel cito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nel gen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nei ribos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nel nucleo delle cellule eucari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E di BIOCHI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844640"/>
            <a:ext cx="62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i aminoacidi usati per formare tutte le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istent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molecole orga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irca in numero di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tutti diversi tra di 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fortemente idrofob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contenuti nel nucleo delle cellule eucari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1989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i acidi grassi sono formati 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lunghe catene di aminoac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atene idrocarbu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esosi e pent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gruppo acido ed una coda  alif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legame che si instaura tra due molecole di acqua, con una debole forza, viene det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legame io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legame idrofob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egame a 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ponte di Var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egame a ponte di 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844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cos'è una vitamin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una sostanza sintetizzata dall'org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na sostanza fondamentale introdotta dall'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un antibio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na sostanza che  fa parte  delle reazioni metabol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una sostanza di ri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2205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i enzim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atalizzatori biolog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catalizzatori inorg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catalizzatori indust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mposti prote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degradabili dal c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191628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rboidrat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mposti organici formati da monosaccar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mposti organici formati da zuccheri sempl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una classe di orm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particolari vi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sono idrocarb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59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è la funzione primaria dei carboidrati neg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ri vivent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fornir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formare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accumularsi nel tessuto adi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ssere accumulati nel fegato dei mammif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ssere ossidati nella cellula dall’ossi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tmosfe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177336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emoglob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non è una 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una prote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ricca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ricca di cal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contenuta negli eritroc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84464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a molecola si dice idrofoba se ess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è solubile in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è 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è insolubile in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possiede atomi di az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È un composto a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155736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un legame covalente si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la sovrapposizione di orbitali atom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la compartecipazione di una coppia di elet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la perdita di elet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attrazione tra uno ione positivo ed un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l’acquisto di elet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844640"/>
            <a:ext cx="554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sono le unità più piccole che compongono le sostanze chimich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t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ossigeno e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ba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mole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06064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omposti organici sono quelli c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contengono zirc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ntengono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non contengono assolutamente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le molecole contenute nelle cel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he contengono legami covalenti tra atom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177336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grassi e gli oli s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carboid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zucch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ontengono carbonio ed 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vi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omposti idrofob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060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pH esprim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a concentrazione di ioni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la concentrazione di ioni OH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il grado di acidità di una 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a concentrazione di prot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quesito senza soluzione univoca o cor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E di B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51:06Z</dcterms:created>
  <dc:creator>Riccardo</dc:creator>
  <dc:description/>
  <dc:language>en-US</dc:language>
  <cp:lastModifiedBy>eugenio giachetti</cp:lastModifiedBy>
  <dcterms:modified xsi:type="dcterms:W3CDTF">2007-10-16T09:43:01Z</dcterms:modified>
  <cp:revision>7</cp:revision>
  <dc:subject/>
  <dc:title>DOMANDE di CHIMICA</dc:title>
</cp:coreProperties>
</file>