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995-2143-461C-B045-1690D0A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08-28BE-4071-8772-2C86115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E71-0972-49FE-AEC3-A4A3094C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A30-2854-4814-87AC-20FB64B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3F9-A5B8-45DF-819D-F8A5A17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D3F-A597-40ED-9C8A-FFE7E55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D6A-9D8B-4D95-8613-D5FEC831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D28-CCE0-4B77-AAA4-6099F76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CF5-AC48-438F-91EF-A19EA27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16E-53DD-402F-8B3C-A5C16A84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494-D8DD-4F2A-9EC0-D655F59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ACD-8D59-475B-94BA-CFCE8B8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2FB-8384-4D80-96E9-DB100990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E di 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7336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o organuli cellul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itocondri e lis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citoplasma e la membrana plasma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cromosomi ed il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cloroplasti ed i vacu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 ribosomi ed il citoschel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9890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77336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I DNA è forma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ue filamenti polinucleotidic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a basi azotate, acido fosforic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desossirib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due filamenti di amminoacidi avvolti ad 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una sequenza di nucleot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1337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206064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mitocondri sono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organuli in cui si compie la digest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a grandezza di un baterio con una dop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rganuli delle cellule eucariotiche in cui si compi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respirazione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organuli in cui si compie la respirazione cellulare d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ario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organili dei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19162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quali delle seguenti cellule è assente il nucle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pro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ellule batte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Eritrociti u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cellule nerv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ellule del midollo oss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77336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 mammiferi il numero dei cromoso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aratteristico per ogni spe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guale in tutte 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è una caratteristica del s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aria da individuo ad 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lla specie umana è pari a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177336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cellule aploidi specializzate per la riproduzione sessuale sono det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) gam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ig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un numero di cromosomi ri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ovociti e spermatoz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sono prodotte dalle gon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84464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'informazione genetica è localizz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i  geni dei crom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nel cito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gen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nei ribos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E di BIOCHI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84464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minoacidi usati per formare tutte l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isten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 molecole organ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irca in numero di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tutti diversi tra di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fortemente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contenuti nel nucleo delle cellule eucari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989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cidi grassi sono formati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unghe catene di aminoac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atene idrocarbu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esosi e pent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gruppo acido ed una coda  alif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legame che si instaura tra due molecole di acqua, con una debole forza, viene det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legame io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egame idrofob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nte di Var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egame a ponte di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844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'è una vitamin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una sostanza sintetizzata dall'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fondamentale introdotta dall'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 antibio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na sostanza che  fa parte  delle reazioni metabol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una sostanza di ri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205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 enzim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talizzatori biolog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catalizzatori inorg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catalizzatori indust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prote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degradabili dal c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1916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rboidra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monosacca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mposti organici formati da zuccheri sempl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una classe di orm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particolari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sono idrocarb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59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è la funzione primaria dei carboidrati ne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ri viven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fornir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formare 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accumularsi nel tessut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accumulati nel fegato dei mammif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ssere ossidati nella cellula dall’ossi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mosfe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77336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emoglob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non è una 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una prote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ricca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ricca di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è contenuta negli eritroc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84464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molecola si dice idrofoba se ess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è 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è 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insolubile in 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possiede atomi di az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È un composto a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1557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 legame covalente si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sovrapposizione di orbitali ato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la compartecipazione di una coppi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la perdita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attrazione tra uno ione positivo ed un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l’acquisto di elet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4640"/>
            <a:ext cx="55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sono le unità più piccole che compongono le sostanze chimich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t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ossigeno 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b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mol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06064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mposti organici sono quelli c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contengono zirc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ontengono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non contengono assolutamente 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le molecole contenute nelle cel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e contengono legami covalenti tra atom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arb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177336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grassi e gli oli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carboid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zucch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ntengono carbonio ed 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vi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composti idrofob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manda N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06064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pH espri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ioni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) la concentrazione di ioni O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il grado di acidità di una 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it-IT" sz="1800" spc="-1" strike="noStrike">
                <a:solidFill>
                  <a:srgbClr val="33cc33"/>
                </a:solidFill>
                <a:latin typeface="Arial"/>
              </a:rPr>
              <a:t>la concentrazione di prot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) quesito senza soluzione univoca o cor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MANDE di BI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51:06Z</dcterms:created>
  <dc:creator>Riccardo</dc:creator>
  <dc:description/>
  <dc:language>en-US</dc:language>
  <cp:lastModifiedBy>eugenio giachetti</cp:lastModifiedBy>
  <dcterms:modified xsi:type="dcterms:W3CDTF">2007-10-16T09:43:01Z</dcterms:modified>
  <cp:revision>7</cp:revision>
  <dc:subject/>
  <dc:title>DOMANDE di CHIMICA</dc:title>
</cp:coreProperties>
</file>